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BDFCC-33A9-4B1C-80A0-2CAC95200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0BF0E-62F0-4467-9674-42F720C45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8B5AC-6D3E-4316-A599-123765BC0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4269-C620-44C2-B076-B5EE26D1E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E9EBE-B7AB-4CD6-B935-E9D19DF259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2CF20-AB0E-4C82-A71E-615C6453B3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410EF-E51E-4D84-9E0B-AE7CE901D4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948BD-3273-4347-9235-6B1238D40D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4BD8C-9DA6-4F4A-8940-11D244ADBB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A98E7-9944-40B4-BD83-9344A4416E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3E6F4-ADA3-4C0B-B4B4-3E0EEB6A23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C9DF-090D-48BE-BA77-EB9E17829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CD7EE-1DBD-48FF-A718-B0296F940D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D434C-73CD-4359-893A-0877C19846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4DB9E-96E4-47A7-9ABF-195D4481DC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B4344-072E-4E18-9CCA-CF7E5A0AF8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3DBFC-57DC-4252-8007-B0034D98CA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B3E49-200F-41C7-A4B5-2F647592A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1E7CD-6DDF-4C1D-92AC-73FD66244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E406-42C9-4A5E-B269-329EFB2F9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052AE-AF6C-44DD-8AB3-EB5E6A474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9847B-781B-405E-888A-A73FCEF20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8A67-B2F9-4A1B-8989-470B6C12B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9FC5-94C4-4CDA-BF5E-62B8B5A75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367ECCB-9696-480E-91A1-1410A729B20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C706D66-D014-4A91-B30B-BE8E69CCB2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84668685-7846-4D68-B92A-30F626105E1E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0627E092-49F9-4FE9-8548-92C88DA8E6F1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2-01-13T11:36:00Z</dcterms:modified>
  <cp:revision>362</cp:revision>
  <dc:subject/>
  <dc:title>No Slide Title</dc:title>
</cp:coreProperties>
</file>